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A518-1FDF-4F30-A2A1-CD60EAE42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40" y="38635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BEC2-88D1-495A-8265-9A157FD5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8F6C-76AD-4969-825F-FAE455DCD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72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40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4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72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40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BE0F-514A-421E-908D-F6AD9631E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153C-52E8-4703-B0E3-C56FBC78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9040" y="1219320"/>
            <a:ext cx="8291520" cy="50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42AF-BA39-46FC-909C-84C6FEC1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7FBE-4754-4ADC-8667-9A9EC26D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939F-22B7-40AF-AB73-C6CDCF73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9C60-E580-42AF-9A6E-CBD637F0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19040" y="157320"/>
            <a:ext cx="829152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1112-7F48-407B-A831-40CDD21A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991E-1BA0-4191-A845-EF7CFD17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40" y="1219320"/>
            <a:ext cx="8291520" cy="50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6C2B-2E97-461B-BC00-9DE6A2A1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776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46AB-73DB-43E9-83EB-C366A790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8CB6-5180-4387-B04C-06E98D31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9040" y="38635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7F68-1E3A-4335-AB46-4CFA599D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776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6DA0-1C99-4683-9713-8C6481E8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72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640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904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72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640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A815-0CD0-41DE-A4D6-54647D591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B8158-99D9-4213-93AA-3462463D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040" y="1219320"/>
            <a:ext cx="8291520" cy="50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1D584-77D8-40E3-9F82-798C9E14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9C7A8-4C6A-4BDB-990A-E4D0CB86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851A9-6DE1-4D8A-9D1B-8AB2FF57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E7A65-7F15-416A-8690-FF6E70F8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3FA8-5952-4E95-9CCE-EAD47E68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19040" y="157320"/>
            <a:ext cx="829152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14C01-BA44-4198-AF14-245BF84B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120DB-6BE9-475A-BFBC-BD6088BD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776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2E524-018F-4A0A-8ACA-453C2CDF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F7D68-ABF2-4A81-88D8-9E3A7210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9040" y="38635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D7F4D-0925-4FD9-B102-F2A03C00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776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3D01C-714D-4353-90FC-C988F27D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2272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640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1904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2272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640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58F0B-B680-4905-954C-7395A8E36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0300F-5C0A-49CA-949E-3E752B29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19040" y="1219320"/>
            <a:ext cx="8291520" cy="50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322D0-562B-4EA1-8D2F-2C7F9D2B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CBA3A-33B8-4303-9050-4B6D5713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79B4-60AF-4704-A59E-B7635E6F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D1132-8F8D-4C19-BF68-81FCBF83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9A6AA-1596-4AC3-BB65-6FAD51EC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19040" y="157320"/>
            <a:ext cx="829152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52BFB-6515-4A72-BB42-D38326BF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7AE77-984B-4E36-9B69-D2AEE88A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D8AED-A27F-4B96-BF33-742FBBCD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24007-8451-45AD-983B-076E1C3E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9040" y="38635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A55AB-CA05-4518-B2C1-EBDF906E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B4B78-9E18-400D-86F3-9E408100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2272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640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1904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2272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640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BD586-7D14-4054-B58A-4AE68B69A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FED5C-C2D2-4DA5-9483-FDF41ABB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4739-05F5-4822-97FD-DAF98EAC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19040" y="1219320"/>
            <a:ext cx="8291520" cy="50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CD7C5-4CFE-4253-9404-6F1C7D9A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F15E8-CAAA-4958-AA85-3475012B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7E808-ABF5-4197-BC22-11D1512C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F229D-2FA7-4D7B-9583-61962079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19040" y="157320"/>
            <a:ext cx="829152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2BC9D-B083-4D17-8946-EBEB11DE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B45E7-90DA-46E2-BAE3-7A4C848A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6776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50F88-9E15-4BFF-A067-01D65DCD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C264B-AB23-40AA-98B3-E3C54903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9040" y="38635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33F88-54B6-4350-908A-43B2EF02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6776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0B041-008E-4A04-A0A3-2CA78AB15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9040" y="157320"/>
            <a:ext cx="829152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654A-66F3-45C6-86DF-52507C82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2272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6400" y="12193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1904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2272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6400" y="3863520"/>
            <a:ext cx="2669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422D7-AF88-4D8A-BD2E-625688FDF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B544-8D7B-4EEE-8A83-EA4F1ED0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38635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75D3-FD99-4A2F-9826-940D1F3A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40" y="3863520"/>
            <a:ext cx="829152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F0A7-279C-421B-AD2F-873613BC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A355-0414-4B69-8D50-F853FCF99D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0" descr=""/>
          <p:cNvPicPr/>
          <p:nvPr/>
        </p:nvPicPr>
        <p:blipFill>
          <a:blip r:embed="rId3"/>
          <a:stretch/>
        </p:blipFill>
        <p:spPr>
          <a:xfrm>
            <a:off x="0" y="-3240"/>
            <a:ext cx="9144000" cy="900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87440" y="1376280"/>
            <a:ext cx="82137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spcBef>
                <a:spcPts val="159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93c8"/>
                </a:solidFill>
                <a:latin typeface="华文新魏"/>
              </a:rPr>
              <a:t>Click to edit the outline text format</a:t>
            </a:r>
            <a:endParaRPr b="0" lang="en-US" sz="2400" spc="-1" strike="noStrike">
              <a:solidFill>
                <a:srgbClr val="1a93c8"/>
              </a:solidFill>
              <a:latin typeface="华文新魏"/>
            </a:endParaRPr>
          </a:p>
          <a:p>
            <a:pPr lvl="1" marL="357120" indent="-357120" algn="just">
              <a:spcBef>
                <a:spcPts val="1599"/>
              </a:spcBef>
              <a:buClr>
                <a:srgbClr val="a1bbee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93c8"/>
                </a:solidFill>
                <a:latin typeface="华文新魏"/>
              </a:rPr>
              <a:t>Second Outline Level</a:t>
            </a:r>
            <a:endParaRPr b="0" lang="en-US" sz="2400" spc="-1" strike="noStrike">
              <a:solidFill>
                <a:srgbClr val="1a93c8"/>
              </a:solidFill>
              <a:latin typeface="华文新魏"/>
            </a:endParaRPr>
          </a:p>
          <a:p>
            <a:pPr lvl="2" marL="1143000" indent="-228600" algn="just">
              <a:spcBef>
                <a:spcPts val="1599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93c8"/>
                </a:solidFill>
                <a:latin typeface="华文新魏"/>
              </a:rPr>
              <a:t>Third Outline Level</a:t>
            </a:r>
            <a:endParaRPr b="0" lang="en-US" sz="2400" spc="-1" strike="noStrike">
              <a:solidFill>
                <a:srgbClr val="1a93c8"/>
              </a:solidFill>
              <a:latin typeface="华文新魏"/>
            </a:endParaRPr>
          </a:p>
          <a:p>
            <a:pPr lvl="3" marL="1600200" indent="-228600" algn="just">
              <a:spcBef>
                <a:spcPts val="1599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93c8"/>
                </a:solidFill>
                <a:latin typeface="华文新魏"/>
              </a:rPr>
              <a:t>Fourth Outline Level</a:t>
            </a:r>
            <a:endParaRPr b="0" lang="en-US" sz="2400" spc="-1" strike="noStrike">
              <a:solidFill>
                <a:srgbClr val="1a93c8"/>
              </a:solidFill>
              <a:latin typeface="华文新魏"/>
            </a:endParaRPr>
          </a:p>
          <a:p>
            <a:pPr lvl="4" marL="2057400" indent="-228600" algn="just">
              <a:spcBef>
                <a:spcPts val="1599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93c8"/>
                </a:solidFill>
                <a:latin typeface="华文新魏"/>
              </a:rPr>
              <a:t>Fifth Outline Level</a:t>
            </a:r>
            <a:endParaRPr b="0" lang="en-US" sz="2400" spc="-1" strike="noStrike">
              <a:solidFill>
                <a:srgbClr val="1a93c8"/>
              </a:solidFill>
              <a:latin typeface="华文新魏"/>
            </a:endParaRPr>
          </a:p>
          <a:p>
            <a:pPr lvl="5" marL="2057400" indent="-228600" algn="just">
              <a:spcBef>
                <a:spcPts val="1599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93c8"/>
                </a:solidFill>
                <a:latin typeface="华文新魏"/>
              </a:rPr>
              <a:t>Sixth Outline Level</a:t>
            </a:r>
            <a:endParaRPr b="0" lang="en-US" sz="2400" spc="-1" strike="noStrike">
              <a:solidFill>
                <a:srgbClr val="1a93c8"/>
              </a:solidFill>
              <a:latin typeface="华文新魏"/>
            </a:endParaRPr>
          </a:p>
          <a:p>
            <a:pPr lvl="6" marL="2057400" indent="-228600" algn="just">
              <a:spcBef>
                <a:spcPts val="1599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93c8"/>
                </a:solidFill>
                <a:latin typeface="华文新魏"/>
              </a:rPr>
              <a:t>Seventh Outline Level</a:t>
            </a:r>
            <a:endParaRPr b="0" lang="en-US" sz="2400" spc="-1" strike="noStrike">
              <a:solidFill>
                <a:srgbClr val="1a93c8"/>
              </a:solidFill>
              <a:latin typeface="华文新魏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7B26-9E5E-40F4-BCC3-A6EB121898C1}" type="slidenum">
              <a:rPr b="0" lang="zh-CN" sz="1200" spc="-1" strike="noStrike">
                <a:solidFill>
                  <a:srgbClr val="9192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0" y="573120"/>
            <a:ext cx="9161640" cy="623880"/>
          </a:xfrm>
          <a:custGeom>
            <a:avLst/>
            <a:gdLst>
              <a:gd name="textAreaLeft" fmla="*/ 0 w 9161640"/>
              <a:gd name="textAreaRight" fmla="*/ 9162000 w 916164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9161405" h="1169931">
                <a:moveTo>
                  <a:pt x="0" y="0"/>
                </a:moveTo>
                <a:lnTo>
                  <a:pt x="9161405" y="0"/>
                </a:lnTo>
                <a:lnTo>
                  <a:pt x="9161405" y="648072"/>
                </a:lnTo>
                <a:cubicBezTo>
                  <a:pt x="8412917" y="803202"/>
                  <a:pt x="6028563" y="1169931"/>
                  <a:pt x="4501662" y="1169931"/>
                </a:cubicBezTo>
                <a:cubicBezTo>
                  <a:pt x="2974761" y="1169931"/>
                  <a:pt x="778412" y="803202"/>
                  <a:pt x="0" y="64807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adee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title"/>
          </p:nvPr>
        </p:nvSpPr>
        <p:spPr>
          <a:xfrm>
            <a:off x="504360" y="448920"/>
            <a:ext cx="82234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5" descr=""/>
          <p:cNvPicPr/>
          <p:nvPr/>
        </p:nvPicPr>
        <p:blipFill>
          <a:blip r:embed="rId3"/>
          <a:stretch/>
        </p:blipFill>
        <p:spPr>
          <a:xfrm>
            <a:off x="1463760" y="1614600"/>
            <a:ext cx="7680240" cy="5243400"/>
          </a:xfrm>
          <a:prstGeom prst="rect">
            <a:avLst/>
          </a:prstGeom>
          <a:ln w="0">
            <a:noFill/>
          </a:ln>
        </p:spPr>
      </p:pic>
      <p:sp>
        <p:nvSpPr>
          <p:cNvPr id="85" name="矩形 6"/>
          <p:cNvSpPr/>
          <p:nvPr/>
        </p:nvSpPr>
        <p:spPr>
          <a:xfrm>
            <a:off x="14400" y="1219320"/>
            <a:ext cx="9129600" cy="563868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E443-39A7-4650-950E-61673FA99B33}" type="slidenum">
              <a:rPr b="0" lang="zh-CN" sz="1200" spc="-1" strike="noStrike">
                <a:solidFill>
                  <a:srgbClr val="9d9d9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a452"/>
                </a:solidFill>
                <a:latin typeface="黑体"/>
              </a:rPr>
              <a:t>Click to edit the title text format</a:t>
            </a: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19040" y="1219320"/>
            <a:ext cx="829152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87a452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9bd4c1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pic>
        <p:nvPicPr>
          <p:cNvPr id="91" name="图片 13" descr=""/>
          <p:cNvPicPr/>
          <p:nvPr/>
        </p:nvPicPr>
        <p:blipFill>
          <a:blip r:embed="rId4"/>
          <a:stretch/>
        </p:blipFill>
        <p:spPr>
          <a:xfrm>
            <a:off x="6748560" y="5222880"/>
            <a:ext cx="2395440" cy="1635120"/>
          </a:xfrm>
          <a:prstGeom prst="rect">
            <a:avLst/>
          </a:prstGeom>
          <a:ln w="0">
            <a:noFill/>
          </a:ln>
        </p:spPr>
      </p:pic>
      <p:sp>
        <p:nvSpPr>
          <p:cNvPr id="92" name="任意多边形 14"/>
          <p:cNvSpPr/>
          <p:nvPr/>
        </p:nvSpPr>
        <p:spPr>
          <a:xfrm>
            <a:off x="14400" y="733320"/>
            <a:ext cx="9129600" cy="366840"/>
          </a:xfrm>
          <a:custGeom>
            <a:avLst/>
            <a:gdLst>
              <a:gd name="textAreaLeft" fmla="*/ 0 w 9129600"/>
              <a:gd name="textAreaRight" fmla="*/ 9129960 w 912960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9129932" h="366639">
                <a:moveTo>
                  <a:pt x="0" y="169623"/>
                </a:moveTo>
                <a:cubicBezTo>
                  <a:pt x="225083" y="243478"/>
                  <a:pt x="450166" y="317334"/>
                  <a:pt x="858129" y="310300"/>
                </a:cubicBezTo>
                <a:cubicBezTo>
                  <a:pt x="1266092" y="303266"/>
                  <a:pt x="1885070" y="118042"/>
                  <a:pt x="2447778" y="127420"/>
                </a:cubicBezTo>
                <a:cubicBezTo>
                  <a:pt x="3010486" y="136798"/>
                  <a:pt x="3685735" y="371259"/>
                  <a:pt x="4234375" y="366570"/>
                </a:cubicBezTo>
                <a:cubicBezTo>
                  <a:pt x="4783015" y="361881"/>
                  <a:pt x="5258972" y="125075"/>
                  <a:pt x="5739618" y="99284"/>
                </a:cubicBezTo>
                <a:cubicBezTo>
                  <a:pt x="6220264" y="73493"/>
                  <a:pt x="6698566" y="225894"/>
                  <a:pt x="7118252" y="211826"/>
                </a:cubicBezTo>
                <a:cubicBezTo>
                  <a:pt x="7537938" y="197758"/>
                  <a:pt x="7922455" y="45358"/>
                  <a:pt x="8257735" y="14878"/>
                </a:cubicBezTo>
                <a:cubicBezTo>
                  <a:pt x="8593015" y="-15602"/>
                  <a:pt x="8861473" y="6672"/>
                  <a:pt x="9129932" y="28946"/>
                </a:cubicBezTo>
              </a:path>
            </a:pathLst>
          </a:custGeom>
          <a:noFill/>
          <a:ln w="25560">
            <a:solidFill>
              <a:srgbClr val="77933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0" descr=""/>
          <p:cNvPicPr/>
          <p:nvPr/>
        </p:nvPicPr>
        <p:blipFill>
          <a:blip r:embed="rId3"/>
          <a:stretch/>
        </p:blipFill>
        <p:spPr>
          <a:xfrm>
            <a:off x="0" y="-3240"/>
            <a:ext cx="9144000" cy="900000"/>
          </a:xfrm>
          <a:prstGeom prst="rect">
            <a:avLst/>
          </a:prstGeom>
          <a:ln w="0">
            <a:noFill/>
          </a:ln>
        </p:spPr>
      </p:pic>
      <p:sp>
        <p:nvSpPr>
          <p:cNvPr id="130" name="矩形 4"/>
          <p:cNvSpPr/>
          <p:nvPr/>
        </p:nvSpPr>
        <p:spPr>
          <a:xfrm>
            <a:off x="0" y="573120"/>
            <a:ext cx="9161640" cy="623880"/>
          </a:xfrm>
          <a:custGeom>
            <a:avLst/>
            <a:gdLst>
              <a:gd name="textAreaLeft" fmla="*/ 0 w 9161640"/>
              <a:gd name="textAreaRight" fmla="*/ 9162000 w 916164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9161405" h="1169931">
                <a:moveTo>
                  <a:pt x="0" y="0"/>
                </a:moveTo>
                <a:lnTo>
                  <a:pt x="9161405" y="0"/>
                </a:lnTo>
                <a:lnTo>
                  <a:pt x="9161405" y="648072"/>
                </a:lnTo>
                <a:cubicBezTo>
                  <a:pt x="8412917" y="803202"/>
                  <a:pt x="6028563" y="1169931"/>
                  <a:pt x="4501662" y="1169931"/>
                </a:cubicBezTo>
                <a:cubicBezTo>
                  <a:pt x="2974761" y="1169931"/>
                  <a:pt x="778412" y="803202"/>
                  <a:pt x="0" y="64807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adee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4"/>
          <p:cNvSpPr/>
          <p:nvPr/>
        </p:nvSpPr>
        <p:spPr>
          <a:xfrm flipV="1">
            <a:off x="0" y="-720"/>
            <a:ext cx="9144000" cy="770040"/>
          </a:xfrm>
          <a:custGeom>
            <a:avLst/>
            <a:gdLst>
              <a:gd name="textAreaLeft" fmla="*/ 0 w 9144000"/>
              <a:gd name="textAreaRight" fmla="*/ 9144360 w 9144000"/>
              <a:gd name="textAreaTop" fmla="*/ -360 h 770040"/>
              <a:gd name="textAreaBottom" fmla="*/ 770040 h 770040"/>
            </a:gdLst>
            <a:ahLst/>
            <a:rect l="textAreaLeft" t="textAreaTop" r="textAreaRight" b="textAreaBottom"/>
            <a:pathLst>
              <a:path w="9161405" h="1169931">
                <a:moveTo>
                  <a:pt x="0" y="0"/>
                </a:moveTo>
                <a:lnTo>
                  <a:pt x="9161405" y="0"/>
                </a:lnTo>
                <a:lnTo>
                  <a:pt x="9161405" y="648072"/>
                </a:lnTo>
                <a:cubicBezTo>
                  <a:pt x="8412917" y="803202"/>
                  <a:pt x="6028563" y="1169931"/>
                  <a:pt x="4501662" y="1169931"/>
                </a:cubicBezTo>
                <a:cubicBezTo>
                  <a:pt x="2974761" y="1169931"/>
                  <a:pt x="778412" y="803202"/>
                  <a:pt x="0" y="64807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adee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11" descr=""/>
          <p:cNvPicPr/>
          <p:nvPr/>
        </p:nvPicPr>
        <p:blipFill>
          <a:blip r:embed="rId4"/>
          <a:stretch/>
        </p:blipFill>
        <p:spPr>
          <a:xfrm>
            <a:off x="0" y="396720"/>
            <a:ext cx="9144000" cy="4380120"/>
          </a:xfrm>
          <a:prstGeom prst="rect">
            <a:avLst/>
          </a:prstGeom>
          <a:ln w="0">
            <a:noFill/>
          </a:ln>
        </p:spPr>
      </p:pic>
      <p:sp>
        <p:nvSpPr>
          <p:cNvPr id="133" name="直接连接符 12"/>
          <p:cNvSpPr/>
          <p:nvPr/>
        </p:nvSpPr>
        <p:spPr>
          <a:xfrm>
            <a:off x="0" y="399960"/>
            <a:ext cx="9144000" cy="0"/>
          </a:xfrm>
          <a:prstGeom prst="line">
            <a:avLst/>
          </a:prstGeom>
          <a:ln w="38160">
            <a:solidFill>
              <a:srgbClr val="00ad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4"/>
          <p:cNvSpPr/>
          <p:nvPr/>
        </p:nvSpPr>
        <p:spPr>
          <a:xfrm>
            <a:off x="0" y="4518000"/>
            <a:ext cx="9161640" cy="1220760"/>
          </a:xfrm>
          <a:custGeom>
            <a:avLst/>
            <a:gdLst>
              <a:gd name="textAreaLeft" fmla="*/ 0 w 9161640"/>
              <a:gd name="textAreaRight" fmla="*/ 9162000 w 9161640"/>
              <a:gd name="textAreaTop" fmla="*/ 0 h 1220760"/>
              <a:gd name="textAreaBottom" fmla="*/ 1221120 h 1220760"/>
            </a:gdLst>
            <a:ahLst/>
            <a:rect l="textAreaLeft" t="textAreaTop" r="textAreaRight" b="textAreaBottom"/>
            <a:pathLst>
              <a:path w="9161405" h="1169931">
                <a:moveTo>
                  <a:pt x="0" y="0"/>
                </a:moveTo>
                <a:lnTo>
                  <a:pt x="9161405" y="0"/>
                </a:lnTo>
                <a:lnTo>
                  <a:pt x="9161405" y="648072"/>
                </a:lnTo>
                <a:cubicBezTo>
                  <a:pt x="8412917" y="803202"/>
                  <a:pt x="6028563" y="1169931"/>
                  <a:pt x="4501662" y="1169931"/>
                </a:cubicBezTo>
                <a:cubicBezTo>
                  <a:pt x="2974761" y="1169931"/>
                  <a:pt x="778412" y="803202"/>
                  <a:pt x="0" y="64807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adee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487440" y="1376280"/>
            <a:ext cx="821376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spcBef>
                <a:spcPts val="1599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93c8"/>
                </a:solidFill>
                <a:latin typeface="华文新魏"/>
              </a:rPr>
              <a:t>Click to edit the outline text format</a:t>
            </a:r>
            <a:endParaRPr b="0" lang="en-US" sz="2400" spc="-1" strike="noStrike">
              <a:solidFill>
                <a:srgbClr val="1a93c8"/>
              </a:solidFill>
              <a:latin typeface="华文新魏"/>
            </a:endParaRPr>
          </a:p>
          <a:p>
            <a:pPr lvl="1" marL="357120" indent="-357120" algn="just">
              <a:spcBef>
                <a:spcPts val="1599"/>
              </a:spcBef>
              <a:buClr>
                <a:srgbClr val="a1bbee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93c8"/>
                </a:solidFill>
                <a:latin typeface="华文新魏"/>
              </a:rPr>
              <a:t>Second Outline Level</a:t>
            </a:r>
            <a:endParaRPr b="0" lang="en-US" sz="2400" spc="-1" strike="noStrike">
              <a:solidFill>
                <a:srgbClr val="1a93c8"/>
              </a:solidFill>
              <a:latin typeface="华文新魏"/>
            </a:endParaRPr>
          </a:p>
          <a:p>
            <a:pPr lvl="2" marL="1143000" indent="-228600" algn="just">
              <a:spcBef>
                <a:spcPts val="1599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93c8"/>
                </a:solidFill>
                <a:latin typeface="华文新魏"/>
              </a:rPr>
              <a:t>Third Outline Level</a:t>
            </a:r>
            <a:endParaRPr b="0" lang="en-US" sz="2400" spc="-1" strike="noStrike">
              <a:solidFill>
                <a:srgbClr val="1a93c8"/>
              </a:solidFill>
              <a:latin typeface="华文新魏"/>
            </a:endParaRPr>
          </a:p>
          <a:p>
            <a:pPr lvl="3" marL="1600200" indent="-228600" algn="just">
              <a:spcBef>
                <a:spcPts val="1599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93c8"/>
                </a:solidFill>
                <a:latin typeface="华文新魏"/>
              </a:rPr>
              <a:t>Fourth Outline Level</a:t>
            </a:r>
            <a:endParaRPr b="0" lang="en-US" sz="2400" spc="-1" strike="noStrike">
              <a:solidFill>
                <a:srgbClr val="1a93c8"/>
              </a:solidFill>
              <a:latin typeface="华文新魏"/>
            </a:endParaRPr>
          </a:p>
          <a:p>
            <a:pPr lvl="4" marL="2057400" indent="-228600" algn="just">
              <a:spcBef>
                <a:spcPts val="1599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93c8"/>
                </a:solidFill>
                <a:latin typeface="华文新魏"/>
              </a:rPr>
              <a:t>Fifth Outline Level</a:t>
            </a:r>
            <a:endParaRPr b="0" lang="en-US" sz="2400" spc="-1" strike="noStrike">
              <a:solidFill>
                <a:srgbClr val="1a93c8"/>
              </a:solidFill>
              <a:latin typeface="华文新魏"/>
            </a:endParaRPr>
          </a:p>
          <a:p>
            <a:pPr lvl="5" marL="2057400" indent="-228600" algn="just">
              <a:spcBef>
                <a:spcPts val="1599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93c8"/>
                </a:solidFill>
                <a:latin typeface="华文新魏"/>
              </a:rPr>
              <a:t>Sixth Outline Level</a:t>
            </a:r>
            <a:endParaRPr b="0" lang="en-US" sz="2400" spc="-1" strike="noStrike">
              <a:solidFill>
                <a:srgbClr val="1a93c8"/>
              </a:solidFill>
              <a:latin typeface="华文新魏"/>
            </a:endParaRPr>
          </a:p>
          <a:p>
            <a:pPr lvl="6" marL="2057400" indent="-228600" algn="just">
              <a:spcBef>
                <a:spcPts val="1599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93c8"/>
                </a:solidFill>
                <a:latin typeface="华文新魏"/>
              </a:rPr>
              <a:t>Seventh Outline Level</a:t>
            </a:r>
            <a:endParaRPr b="0" lang="en-US" sz="2400" spc="-1" strike="noStrike">
              <a:solidFill>
                <a:srgbClr val="1a93c8"/>
              </a:solidFill>
              <a:latin typeface="华文新魏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504360" y="448920"/>
            <a:ext cx="82234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9645-B1D7-44C6-8D14-F4E8259B48AA}" type="slidenum">
              <a:rPr b="0" lang="zh-CN" sz="1200" spc="-1" strike="noStrike">
                <a:solidFill>
                  <a:srgbClr val="9192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片 15" descr=""/>
          <p:cNvPicPr/>
          <p:nvPr/>
        </p:nvPicPr>
        <p:blipFill>
          <a:blip r:embed="rId3"/>
          <a:stretch/>
        </p:blipFill>
        <p:spPr>
          <a:xfrm>
            <a:off x="1463760" y="1614600"/>
            <a:ext cx="7680240" cy="5243400"/>
          </a:xfrm>
          <a:prstGeom prst="rect">
            <a:avLst/>
          </a:prstGeom>
          <a:ln w="0">
            <a:noFill/>
          </a:ln>
        </p:spPr>
      </p:pic>
      <p:sp>
        <p:nvSpPr>
          <p:cNvPr id="177" name="矩形 6"/>
          <p:cNvSpPr/>
          <p:nvPr/>
        </p:nvSpPr>
        <p:spPr>
          <a:xfrm>
            <a:off x="14400" y="1219320"/>
            <a:ext cx="9129600" cy="563868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图片 13" descr=""/>
          <p:cNvPicPr/>
          <p:nvPr/>
        </p:nvPicPr>
        <p:blipFill>
          <a:blip r:embed="rId4"/>
          <a:stretch/>
        </p:blipFill>
        <p:spPr>
          <a:xfrm>
            <a:off x="6748560" y="5222880"/>
            <a:ext cx="2395440" cy="1635120"/>
          </a:xfrm>
          <a:prstGeom prst="rect">
            <a:avLst/>
          </a:prstGeom>
          <a:ln w="0">
            <a:noFill/>
          </a:ln>
        </p:spPr>
      </p:pic>
      <p:sp>
        <p:nvSpPr>
          <p:cNvPr id="179" name="任意多边形 14"/>
          <p:cNvSpPr/>
          <p:nvPr/>
        </p:nvSpPr>
        <p:spPr>
          <a:xfrm>
            <a:off x="14400" y="733320"/>
            <a:ext cx="9129600" cy="366840"/>
          </a:xfrm>
          <a:custGeom>
            <a:avLst/>
            <a:gdLst>
              <a:gd name="textAreaLeft" fmla="*/ 0 w 9129600"/>
              <a:gd name="textAreaRight" fmla="*/ 9129960 w 912960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9129932" h="366639">
                <a:moveTo>
                  <a:pt x="0" y="169623"/>
                </a:moveTo>
                <a:cubicBezTo>
                  <a:pt x="225083" y="243478"/>
                  <a:pt x="450166" y="317334"/>
                  <a:pt x="858129" y="310300"/>
                </a:cubicBezTo>
                <a:cubicBezTo>
                  <a:pt x="1266092" y="303266"/>
                  <a:pt x="1885070" y="118042"/>
                  <a:pt x="2447778" y="127420"/>
                </a:cubicBezTo>
                <a:cubicBezTo>
                  <a:pt x="3010486" y="136798"/>
                  <a:pt x="3685735" y="371259"/>
                  <a:pt x="4234375" y="366570"/>
                </a:cubicBezTo>
                <a:cubicBezTo>
                  <a:pt x="4783015" y="361881"/>
                  <a:pt x="5258972" y="125075"/>
                  <a:pt x="5739618" y="99284"/>
                </a:cubicBezTo>
                <a:cubicBezTo>
                  <a:pt x="6220264" y="73493"/>
                  <a:pt x="6698566" y="225894"/>
                  <a:pt x="7118252" y="211826"/>
                </a:cubicBezTo>
                <a:cubicBezTo>
                  <a:pt x="7537938" y="197758"/>
                  <a:pt x="7922455" y="45358"/>
                  <a:pt x="8257735" y="14878"/>
                </a:cubicBezTo>
                <a:cubicBezTo>
                  <a:pt x="8593015" y="-15602"/>
                  <a:pt x="8861473" y="6672"/>
                  <a:pt x="9129932" y="28946"/>
                </a:cubicBezTo>
              </a:path>
            </a:pathLst>
          </a:custGeom>
          <a:noFill/>
          <a:ln w="25560">
            <a:solidFill>
              <a:srgbClr val="77933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图片 10" descr=""/>
          <p:cNvPicPr/>
          <p:nvPr/>
        </p:nvPicPr>
        <p:blipFill>
          <a:blip r:embed="rId5"/>
          <a:stretch/>
        </p:blipFill>
        <p:spPr>
          <a:xfrm>
            <a:off x="782640" y="0"/>
            <a:ext cx="7875720" cy="46083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19040" y="157320"/>
            <a:ext cx="8291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a452"/>
                </a:solidFill>
                <a:latin typeface="黑体"/>
              </a:rPr>
              <a:t>Click to edit the title text format</a:t>
            </a: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19040" y="1219320"/>
            <a:ext cx="829152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87a452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9bd4c1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a452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F9FB-4401-4F33-B675-167399B705AA}" type="slidenum">
              <a:rPr b="0" lang="zh-CN" sz="1200" spc="-1" strike="noStrike">
                <a:solidFill>
                  <a:srgbClr val="9d9d9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矩形 1" descr=""/>
          <p:cNvPicPr/>
          <p:nvPr/>
        </p:nvPicPr>
        <p:blipFill>
          <a:blip r:embed="rId1"/>
          <a:stretch/>
        </p:blipFill>
        <p:spPr>
          <a:xfrm>
            <a:off x="1633680" y="2309760"/>
            <a:ext cx="56577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3"/>
          <p:cNvSpPr/>
          <p:nvPr/>
        </p:nvSpPr>
        <p:spPr>
          <a:xfrm>
            <a:off x="2808360" y="2638440"/>
            <a:ext cx="421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Let's ac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041"/>
          <p:cNvPicPr/>
          <p:nvPr/>
        </p:nvPicPr>
        <p:blipFill>
          <a:blip r:embed="rId1"/>
          <a:stretch/>
        </p:blipFill>
        <p:spPr>
          <a:xfrm>
            <a:off x="1619280" y="2276640"/>
            <a:ext cx="5406840" cy="287964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3"/>
          <p:cNvSpPr/>
          <p:nvPr/>
        </p:nvSpPr>
        <p:spPr>
          <a:xfrm>
            <a:off x="0" y="18900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Picture 1: What’s the boy’s name? Who is Jack? What is Jack do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1332000" y="2924280"/>
            <a:ext cx="2087640" cy="431640"/>
          </a:xfrm>
          <a:prstGeom prst="wedgeRoundRectCallout">
            <a:avLst>
              <a:gd name="adj1" fmla="val 34060"/>
              <a:gd name="adj2" fmla="val 151912"/>
              <a:gd name="adj3" fmla="val 16667"/>
            </a:avLst>
          </a:prstGeom>
          <a:solidFill>
            <a:srgbClr val="ffff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Here you 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5219640" y="1989000"/>
            <a:ext cx="2879640" cy="720720"/>
          </a:xfrm>
          <a:prstGeom prst="cloudCallout">
            <a:avLst>
              <a:gd name="adj1" fmla="val -46856"/>
              <a:gd name="adj2" fmla="val 133699"/>
            </a:avLst>
          </a:prstGeom>
          <a:solidFill>
            <a:srgbClr val="ffff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hanks Jack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684360" y="5516640"/>
            <a:ext cx="72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John and his dog, Jack, are good friends. They play toget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324000" y="18900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Picture2: What’s John doing? When does he brush his teeth?   What does Jack do while John brushes his teeth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042"/>
          <p:cNvPicPr/>
          <p:nvPr/>
        </p:nvPicPr>
        <p:blipFill>
          <a:blip r:embed="rId1"/>
          <a:stretch/>
        </p:blipFill>
        <p:spPr>
          <a:xfrm>
            <a:off x="2340000" y="1628640"/>
            <a:ext cx="5329080" cy="388944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4"/>
          <p:cNvSpPr/>
          <p:nvPr/>
        </p:nvSpPr>
        <p:spPr>
          <a:xfrm>
            <a:off x="1044720" y="1989000"/>
            <a:ext cx="3095640" cy="503280"/>
          </a:xfrm>
          <a:prstGeom prst="wedgeRoundRectCallout">
            <a:avLst>
              <a:gd name="adj1" fmla="val 40254"/>
              <a:gd name="adj2" fmla="val 94162"/>
              <a:gd name="adj3" fmla="val 16667"/>
            </a:avLst>
          </a:prstGeom>
          <a:solidFill>
            <a:srgbClr val="ffff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rush, brush, bru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611280" y="5732640"/>
            <a:ext cx="69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n the morning, John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brushes his teeth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washes his fac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 Jack watches hi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-243360"/>
            <a:ext cx="943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7a452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Picture3: What do you see in this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picture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 ? </a:t>
            </a:r>
            <a:endParaRPr b="1" lang="en-US" sz="3200" spc="-1" strike="noStrike">
              <a:solidFill>
                <a:srgbClr val="87a452"/>
              </a:solidFill>
              <a:latin typeface="黑体"/>
            </a:endParaRPr>
          </a:p>
        </p:txBody>
      </p:sp>
      <p:pic>
        <p:nvPicPr>
          <p:cNvPr id="233" name="Picture 3" descr="043"/>
          <p:cNvPicPr/>
          <p:nvPr/>
        </p:nvPicPr>
        <p:blipFill>
          <a:blip r:embed="rId1"/>
          <a:stretch/>
        </p:blipFill>
        <p:spPr>
          <a:xfrm>
            <a:off x="1403280" y="2133720"/>
            <a:ext cx="5616720" cy="301608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4"/>
          <p:cNvSpPr/>
          <p:nvPr/>
        </p:nvSpPr>
        <p:spPr>
          <a:xfrm>
            <a:off x="5437080" y="1773360"/>
            <a:ext cx="3382920" cy="1225440"/>
          </a:xfrm>
          <a:prstGeom prst="cloudCallout">
            <a:avLst>
              <a:gd name="adj1" fmla="val -52287"/>
              <a:gd name="adj2" fmla="val 62671"/>
            </a:avLst>
          </a:prstGeom>
          <a:solidFill>
            <a:srgbClr val="ffff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et’s have breakfa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1187280" y="3357720"/>
            <a:ext cx="1440000" cy="431640"/>
          </a:xfrm>
          <a:prstGeom prst="wedgeRoundRectCallout">
            <a:avLst>
              <a:gd name="adj1" fmla="val 38314"/>
              <a:gd name="adj2" fmla="val 78675"/>
              <a:gd name="adj3" fmla="val 16667"/>
            </a:avLst>
          </a:prstGeom>
          <a:solidFill>
            <a:srgbClr val="ffff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Woof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763640" y="566100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have breakfa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468360" y="40464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Picture4: What do they do in the aftern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044"/>
          <p:cNvPicPr/>
          <p:nvPr/>
        </p:nvPicPr>
        <p:blipFill>
          <a:blip r:embed="rId1"/>
          <a:stretch/>
        </p:blipFill>
        <p:spPr>
          <a:xfrm>
            <a:off x="2268360" y="2276640"/>
            <a:ext cx="4397400" cy="273348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4"/>
          <p:cNvSpPr/>
          <p:nvPr/>
        </p:nvSpPr>
        <p:spPr>
          <a:xfrm>
            <a:off x="5940360" y="1844640"/>
            <a:ext cx="2486160" cy="576360"/>
          </a:xfrm>
          <a:prstGeom prst="cloudCallout">
            <a:avLst>
              <a:gd name="adj1" fmla="val -54652"/>
              <a:gd name="adj2" fmla="val 62671"/>
            </a:avLst>
          </a:prstGeom>
          <a:solidFill>
            <a:srgbClr val="ffff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et’s 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1044720" y="3213000"/>
            <a:ext cx="1439640" cy="432000"/>
          </a:xfrm>
          <a:prstGeom prst="wedgeRoundRectCallout">
            <a:avLst>
              <a:gd name="adj1" fmla="val 38314"/>
              <a:gd name="adj2" fmla="val 78675"/>
              <a:gd name="adj3" fmla="val 16667"/>
            </a:avLst>
          </a:prstGeom>
          <a:solidFill>
            <a:srgbClr val="ffff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Hoor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611280" y="5300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n the afternoon, John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goes hom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with J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250920" y="260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Picture5: What is the boy playing with? When?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045"/>
          <p:cNvPicPr/>
          <p:nvPr/>
        </p:nvPicPr>
        <p:blipFill>
          <a:blip r:embed="rId1"/>
          <a:stretch/>
        </p:blipFill>
        <p:spPr>
          <a:xfrm>
            <a:off x="1258920" y="1700280"/>
            <a:ext cx="5184720" cy="331128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4"/>
          <p:cNvSpPr/>
          <p:nvPr/>
        </p:nvSpPr>
        <p:spPr>
          <a:xfrm>
            <a:off x="4572000" y="1413000"/>
            <a:ext cx="1909800" cy="576000"/>
          </a:xfrm>
          <a:prstGeom prst="cloudCallout">
            <a:avLst>
              <a:gd name="adj1" fmla="val -54652"/>
              <a:gd name="adj2" fmla="val 62671"/>
            </a:avLst>
          </a:prstGeom>
          <a:solidFill>
            <a:srgbClr val="ffff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at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611280" y="558972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On Saturday, they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play catch with a ball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. John throws the bal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468360" y="2276640"/>
            <a:ext cx="7991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Picture6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7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ere is Jack? Wha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Jack doing in picture7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179280" y="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Picture8: What do you see in the picture? Are they happy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3" descr="046"/>
          <p:cNvPicPr/>
          <p:nvPr/>
        </p:nvPicPr>
        <p:blipFill>
          <a:blip r:embed="rId1"/>
          <a:stretch/>
        </p:blipFill>
        <p:spPr>
          <a:xfrm>
            <a:off x="468360" y="1844640"/>
            <a:ext cx="6408720" cy="381636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4"/>
          <p:cNvSpPr/>
          <p:nvPr/>
        </p:nvSpPr>
        <p:spPr>
          <a:xfrm>
            <a:off x="4427640" y="1557360"/>
            <a:ext cx="3240000" cy="1079640"/>
          </a:xfrm>
          <a:prstGeom prst="cloudCallout">
            <a:avLst>
              <a:gd name="adj1" fmla="val -59407"/>
              <a:gd name="adj2" fmla="val 71615"/>
            </a:avLst>
          </a:prstGeom>
          <a:solidFill>
            <a:srgbClr val="ffff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Let’s help the little bi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4643280" y="3716280"/>
            <a:ext cx="1440000" cy="576360"/>
          </a:xfrm>
          <a:prstGeom prst="wedgeRoundRectCallout">
            <a:avLst>
              <a:gd name="adj1" fmla="val -71166"/>
              <a:gd name="adj2" fmla="val 67078"/>
              <a:gd name="adj3" fmla="val 16667"/>
            </a:avLst>
          </a:prstGeom>
          <a:solidFill>
            <a:srgbClr val="ffff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Ok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826920" y="566100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John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put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the little bird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u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in the tree. Then he and Jack go home happil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2916360" y="54936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79280" y="1844640"/>
            <a:ext cx="87854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f0"/>
                </a:solidFill>
                <a:latin typeface="Comic Sans MS"/>
              </a:rPr>
              <a:t>1)What does John do in the morning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f0"/>
                </a:solidFill>
                <a:latin typeface="Comic Sans MS"/>
              </a:rPr>
              <a:t>What does Jack do in the morning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f0"/>
                </a:solidFill>
                <a:latin typeface="Comic Sans MS"/>
              </a:rPr>
              <a:t>2)What do they do on Satur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f0"/>
                </a:solidFill>
                <a:latin typeface="Comic Sans MS"/>
              </a:rPr>
              <a:t>3)What do they see in the gras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f0"/>
                </a:solidFill>
                <a:latin typeface="Comic Sans MS"/>
              </a:rPr>
              <a:t>4)What do they do t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1T00:13:36Z</dcterms:created>
  <dc:creator/>
  <dc:description/>
  <cp:keywords/>
  <dc:language>en-US</dc:language>
  <cp:lastModifiedBy/>
  <dcterms:modified xsi:type="dcterms:W3CDTF">2016-08-23T07:39:50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88</vt:lpwstr>
  </property>
</Properties>
</file>